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91E928-18E2-44E3-B071-D2CBE1AE66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520C480-4EC2-4606-AD75-28F51A7B20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1E23BDF-926C-4498-9587-3F326AA062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2DB7295-089B-4669-9297-66C8E95E7B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CAD1D0-9173-48C2-9C77-F8A5BBB107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19D6D4-A7EA-497E-B4E1-69E75BE2AD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05085F-D177-4120-8B98-FEBEEFB222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8CD6E22-B917-45EE-8316-AF567D752E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71C2A87-EE5E-4C82-A221-B6A0660C55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62EB78-8CA5-4C70-A356-6917E16FE1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E18A97-7B6B-4287-862F-3DD8418B4F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E3F4D0-235D-4B05-92EC-BB6B56ECDF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C2A6-834D-4452-9E47-C17F19E6862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triangle" w="med"/>
            <a:tailEnd len="med" type="triangle"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triangle" w="med"/>
            <a:tailEnd len="med" type="triangle"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